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A00-CBC9-494E-A184-C20D7D5C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489-B906-48EE-AE10-23E5315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3C9-B488-4138-B25B-3134A5B3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810-9044-4647-B7D9-56603A05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022-2ECA-48E3-A2A7-BBC0A72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350-7B90-43CA-95AE-49EF474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34C-75BA-4FB8-8494-6EB99C4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86E-C952-462D-9960-FB4769F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627-6FEA-4260-A33C-6F1AB28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534-542B-4D9B-9C67-0F9CB11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4CA-1188-4E78-8E32-B2D1767D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E88-FC4F-491B-9590-6EBEC39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C08C-A78C-44AD-9F0C-E2650C75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1 Pod krížom môjho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žom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íl je skutoč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ôni Skaly odve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úkryt bezpeč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búrok príval utích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otriem s čela zn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útrapách a náma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pasiteľa svojho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hľadie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ilosť jeho nezmer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e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trpel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chy zo mňa sň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o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upnou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láske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záruku vždy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n mi v tiesni po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u, hriechu odol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túžby sveta, sláva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márny prelud, k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s Pánom raz vo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č krajšie nepoz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40:04Z</dcterms:modified>
  <cp:revision>20</cp:revision>
  <dc:subject/>
  <dc:title>Je veľký náš Pán, on slávy je Kráľ Nech do všetkých strán  spev vrúcnych znie chvál.</dc:title>
</cp:coreProperties>
</file>